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4A1-A26B-4A08-AB44-14A28149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FF6-0B9B-4338-B987-11AEAA89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DCE-6322-4CD5-AF09-2EB23CE8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894-FF61-4EE9-AC92-5E8EF67C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193-E212-4A00-ABAE-C80C0B53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C37-2A68-4EF8-89D5-713AB779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CD6-6C9E-4BD4-B96D-7095E590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85F-C87D-4FE5-801D-DB18513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97A-7CA1-4DE9-A4FA-5CB1FD9D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D85-3619-4B35-90F1-93BC3845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3D0-8058-44EE-877E-F0F3F02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95B-3888-40B4-8A0A-EDA1990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CE96-7271-4CC9-A9B7-48A03259B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wmf"/><Relationship Id="rId3" Type="http://schemas.openxmlformats.org/officeDocument/2006/relationships/slide" Target="slide4.xml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066680"/>
            <a:ext cx="1295640" cy="152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4419720"/>
            <a:ext cx="2144880" cy="150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781680" y="3962520"/>
            <a:ext cx="1524240" cy="1571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553080" y="838080"/>
            <a:ext cx="1648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129564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92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ry! Try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53080" y="838080"/>
            <a:ext cx="1648080" cy="181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92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2144880" cy="150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92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524240" cy="1571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92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21:46:11Z</dcterms:created>
  <dc:creator>Wake County Public Schools</dc:creator>
  <dc:description/>
  <dc:language>en-US</dc:language>
  <cp:lastModifiedBy>Wake County Public Schools</cp:lastModifiedBy>
  <dcterms:modified xsi:type="dcterms:W3CDTF">2009-04-30T22:04:38Z</dcterms:modified>
  <cp:revision>2</cp:revision>
  <dc:subject/>
  <dc:title>-ap</dc:title>
</cp:coreProperties>
</file>